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8CCF6E-B883-40C5-ABDC-75525444212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D3BA6A-1A05-4BE5-B3D6-6B7F849728A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380801-FE79-41EC-874F-899E37DC637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FEAE58-5A5F-42B6-97B4-6F0ED150774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08EC65-7F95-4A44-98BE-0CEC7F448C6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68B665-6F34-4511-820F-85D581E5585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F6EA90-B9D9-42F6-A4F8-10AE06D7C68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A35F3E-AEB8-4268-9635-868C6E057FD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9E2072-E5CC-48F8-825F-D2C02F8FBBB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06348B-FF59-4AE8-B07B-F810B809F2E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56F12D-0A53-4BA0-B3FC-F820941FBD0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8EF93B-47E2-4B54-BBFB-403BA5B7731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29848E-B99E-46BE-8343-BB981734785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10BD04-C107-4D82-9949-505DF6AA278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A0B599-7EE0-472D-A5E3-4A3A10D956D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59D1CE-66B9-41C1-870C-3013E4ADF02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D69A59-A67D-4074-99B0-244C86D6B6A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4D89D2-7629-4A0B-A556-6D97D7E380D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C72-0532-4E9F-A1C8-71EE587D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A69-7170-4994-B94E-76930213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5B4-7D0F-4985-9FB6-AB911AAF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C05-965C-495E-B859-66B3C76B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15E1-1390-4FA8-B6B2-2AA8CC3A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2BFA-B8C4-471F-83D7-BD72769E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C919-BCD0-4DDB-A28E-C6EF4BF5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BC19-DEBB-4578-977F-3C4D43C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A84C-D8D1-4A44-ACBD-23C50BD6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0403-C181-4864-906E-15C1E71A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A769-438F-4DDC-92EE-0A7E8D7E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132-FF8C-4A55-8D20-4277EE08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4CC0-33BC-403C-A34E-8D3CBE9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E25-1207-4655-B8A5-AB03452B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A44-2C50-457A-BA52-9751E5E3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06F6-565C-4D53-8EE1-99A1A870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2C68-E454-4B50-87B6-011EBEBE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D57-5AF4-44DF-8D3C-8A934B83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123-822F-4F3C-8B6E-CF7B8A87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CA8-94B9-4FD6-85AD-89E5075C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17D-E4DE-4E22-9F2A-F0B1994E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893-C4BB-4457-A66E-E842557E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2D4-56B6-4980-B5BD-81A481B6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35E-907A-4358-A573-4443ED25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78B2-4746-4DDF-9503-C425EE6B8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356C-6054-4362-8573-D7AE16928E3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or the 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151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154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6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159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162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169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2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173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5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176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179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1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182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4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185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7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188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0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2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193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5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9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200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2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 = path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+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 exist many variants and their implementa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ves the prefix proble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lower: O(p) time, many cache mi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10 to 60 (or, even more) byte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71320" y="5992920"/>
            <a:ext cx="65998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s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c syzigial syzygygy     szaibelyite sz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o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50"/>
          <p:cNvSpPr/>
          <p:nvPr/>
        </p:nvSpPr>
        <p:spPr>
          <a:xfrm>
            <a:off x="2124000" y="4363920"/>
            <a:ext cx="20890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2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223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5" name="Text Box 59"/>
          <p:cNvSpPr/>
          <p:nvPr/>
        </p:nvSpPr>
        <p:spPr>
          <a:xfrm>
            <a:off x="4391280" y="3357720"/>
            <a:ext cx="4598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63"/>
          <p:cNvSpPr/>
          <p:nvPr/>
        </p:nvSpPr>
        <p:spPr>
          <a:xfrm>
            <a:off x="5292720" y="6215040"/>
            <a:ext cx="934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59"/>
          <p:cNvSpPr/>
          <p:nvPr/>
        </p:nvSpPr>
        <p:spPr>
          <a:xfrm>
            <a:off x="4535640" y="1857240"/>
            <a:ext cx="4310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1482840" y="5857920"/>
            <a:ext cx="35938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5245200" y="5857920"/>
            <a:ext cx="284472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1547640" y="621504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queezing dic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5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236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8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9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240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241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5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6" name="Text Box 20"/>
          <p:cNvSpPr/>
          <p:nvPr/>
        </p:nvSpPr>
        <p:spPr>
          <a:xfrm>
            <a:off x="1042920" y="2252520"/>
            <a:ext cx="640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ile  syzygetic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 syzyg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7" name="Group 27"/>
          <p:cNvGrpSpPr/>
          <p:nvPr/>
        </p:nvGrpSpPr>
        <p:grpSpPr>
          <a:xfrm>
            <a:off x="2413080" y="2265480"/>
            <a:ext cx="4174560" cy="968760"/>
            <a:chOff x="2413080" y="2265480"/>
            <a:chExt cx="4174560" cy="968760"/>
          </a:xfrm>
        </p:grpSpPr>
        <p:sp>
          <p:nvSpPr>
            <p:cNvPr id="248" name="Rectangle 21"/>
            <p:cNvSpPr/>
            <p:nvPr/>
          </p:nvSpPr>
          <p:spPr>
            <a:xfrm>
              <a:off x="2413080" y="2265480"/>
              <a:ext cx="358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4068720" y="2265480"/>
              <a:ext cx="100620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5653080" y="2265480"/>
              <a:ext cx="934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Text Box 24"/>
            <p:cNvSpPr/>
            <p:nvPr/>
          </p:nvSpPr>
          <p:spPr>
            <a:xfrm>
              <a:off x="242172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Text Box 25"/>
            <p:cNvSpPr/>
            <p:nvPr/>
          </p:nvSpPr>
          <p:spPr>
            <a:xfrm>
              <a:off x="436464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26"/>
            <p:cNvSpPr/>
            <p:nvPr/>
          </p:nvSpPr>
          <p:spPr>
            <a:xfrm>
              <a:off x="5813640" y="27687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c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1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262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4" name="Text Box 59"/>
          <p:cNvSpPr/>
          <p:nvPr/>
        </p:nvSpPr>
        <p:spPr>
          <a:xfrm>
            <a:off x="4397400" y="3357720"/>
            <a:ext cx="4651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59"/>
          <p:cNvSpPr/>
          <p:nvPr/>
        </p:nvSpPr>
        <p:spPr>
          <a:xfrm>
            <a:off x="4614840" y="1857240"/>
            <a:ext cx="43498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it-IT" sz="1600" spc="-1" strike="noStrike">
                <a:solidFill>
                  <a:srgbClr val="20ac6f"/>
                </a:solidFill>
                <a:latin typeface="Tahoma"/>
                <a:ea typeface="Tahoma"/>
              </a:rPr>
              <a:t>and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principal u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document(s) being index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queries to retrieve “right” answ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flavo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olated 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eck each word on its own for misspell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what about: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for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text-sensitive is more effecti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ook at surrounding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undamental premise – there is a lexicon from which the correct spellings com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basic choices for th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standard lexicon such 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ster’s English Dictio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 “industry-specific” lexicon – hand-maintain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exicon of the indexed corp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all word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names, acronyms etc. (including the mis-spelling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ing algorithms to derive the possible correc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lexicon and a character sequence Q, return the words in the lexicon closest to Q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’s “closest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ll study several meas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ute-force check of 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query Q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numerate all character sequences within a preset (weighted) edit distance (e.g., 2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sect this set with list of “correct” 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w terms you found to user as sugges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ttangolo arrotondato 1"/>
          <p:cNvSpPr/>
          <p:nvPr/>
        </p:nvSpPr>
        <p:spPr>
          <a:xfrm>
            <a:off x="3203640" y="5589720"/>
            <a:ext cx="558324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How the time complexity grow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with #errors allowed and string length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is le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xact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olerant” retrieval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dit-distance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ld-card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7648920" y="-331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wo string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minimum number of </a:t>
            </a:r>
            <a:r>
              <a:rPr b="1" i="1" lang="en-US" sz="2600" spc="-1" strike="noStrike">
                <a:solidFill>
                  <a:srgbClr val="ff3300"/>
                </a:solidFill>
                <a:latin typeface="Lucida Sans"/>
              </a:rPr>
              <a:t>operation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convert one to the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perations are typically character-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(possibly, Transposi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the edit distance fro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f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2 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Just 1 with transpos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Generally found by dynamic programm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80520" y="1700280"/>
            <a:ext cx="82947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edit distance to trans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i]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j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su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equence of ops: ins, del, subst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the edit distance as an alignment problem wher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ser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 to 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a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le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 to 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]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j] then last op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us it is not coun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therwise the last op is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bs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i]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i]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Prog for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413000" y="4508640"/>
            <a:ext cx="6688080" cy="23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(i,0)=i, E(0,j)=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i]= 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1 + min{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}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i]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7744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5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24000" y="1628640"/>
          <a:ext cx="1966680" cy="1311480"/>
        </p:xfrm>
        <a:graphic>
          <a:graphicData uri="http://schemas.openxmlformats.org/drawingml/2006/table">
            <a:tbl>
              <a:tblPr/>
              <a:tblGrid>
                <a:gridCol w="984240"/>
                <a:gridCol w="98244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6" name="Connettore 2 3"/>
          <p:cNvCxnSpPr/>
          <p:nvPr/>
        </p:nvCxnSpPr>
        <p:spPr>
          <a:xfrm>
            <a:off x="684000" y="1916280"/>
            <a:ext cx="115164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97" name="CasellaDiTesto 4"/>
          <p:cNvSpPr/>
          <p:nvPr/>
        </p:nvSpPr>
        <p:spPr>
          <a:xfrm>
            <a:off x="816480" y="17161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98" name="Connettore 2 7"/>
          <p:cNvCxnSpPr/>
          <p:nvPr/>
        </p:nvCxnSpPr>
        <p:spPr>
          <a:xfrm>
            <a:off x="1834920" y="1916280"/>
            <a:ext cx="108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99" name="CasellaDiTesto 11"/>
          <p:cNvSpPr/>
          <p:nvPr/>
        </p:nvSpPr>
        <p:spPr>
          <a:xfrm>
            <a:off x="1810440" y="1828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CasellaDiTesto 12"/>
          <p:cNvSpPr/>
          <p:nvPr/>
        </p:nvSpPr>
        <p:spPr>
          <a:xfrm>
            <a:off x="780840" y="2349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1" name="Connettore 2 13"/>
          <p:cNvCxnSpPr/>
          <p:nvPr/>
        </p:nvCxnSpPr>
        <p:spPr>
          <a:xfrm>
            <a:off x="798480" y="2711160"/>
            <a:ext cx="1046880" cy="1476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 above, but the weight of an operation depends on the character(s) invol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ant to capture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1" i="1" lang="en-US" sz="2400" spc="-1" strike="noStrike">
                <a:solidFill>
                  <a:srgbClr val="ff3300"/>
                </a:solidFill>
                <a:latin typeface="Lucida Sans"/>
              </a:rPr>
              <a:t>smaller c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weighted matrix as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dify DP to handle weigh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ne-error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1-error = insertion, deletion or substitution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one single charac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arragina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substitu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eragina 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inser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errragina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dele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string of length L over A chars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#variants = L (A-1) + (L+1)A + L = A * (2L+1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You could have many candid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can still deploy keyboard layout or other statistical information (web, wikipedia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ttangolo arrotondato 8"/>
          <p:cNvSpPr/>
          <p:nvPr/>
        </p:nvSpPr>
        <p:spPr>
          <a:xfrm>
            <a:off x="4788000" y="5445000"/>
            <a:ext cx="4248000" cy="1297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Do we need to make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the enumera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possible approa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Create two dictiona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1 = { strings 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2 = { strings of D1 with </a:t>
            </a:r>
            <a:r>
              <a:rPr b="0" i="1" lang="it-IT" sz="2400" spc="-1" strike="noStrike">
                <a:solidFill>
                  <a:srgbClr val="ff0000"/>
                </a:solidFill>
                <a:latin typeface="Lucida Sans"/>
              </a:rPr>
              <a:t>one deletion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1 = {cat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,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,</a:t>
            </a:r>
            <a:r>
              <a:rPr b="0" lang="it-IT" sz="26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g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2 = {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ag [</a:t>
            </a:r>
            <a:r>
              <a:rPr b="0" lang="it-IT" sz="26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 dag], da [dag], dg [dag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as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as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a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s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 [cst], ct [cst], st [cst]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t [cat], ca [cat], ct [cat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ettangolo arrotondato 8"/>
          <p:cNvSpPr/>
          <p:nvPr/>
        </p:nvSpPr>
        <p:spPr>
          <a:xfrm>
            <a:off x="5357880" y="5445000"/>
            <a:ext cx="3678120" cy="1297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Assume a fast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string-check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in a dictiona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32920" y="1557000"/>
            <a:ext cx="867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1 = {cat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,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,</a:t>
            </a:r>
            <a:r>
              <a:rPr b="0" lang="it-IT" sz="26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g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2 = {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ag [dag]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ast [cast],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t [cat], ca [cat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 [cast], cat [cast],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 [cst]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st [cast],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ct [cat;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 [dag], dg [dag],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st [cst]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518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Query(«cat»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fect match: Search(P)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 [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less: Search(P) in D2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 [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cat [cast]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more: Search(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 [search for {at, ct, ca} in D1 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 match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ubstitution: Search(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in D2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 [e.g. {at,ct, ca} in D2 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t [cat], ct [cat], </a:t>
            </a:r>
            <a:r>
              <a:rPr b="0" lang="it-IT" sz="2400" spc="-1" strike="noStrike">
                <a:solidFill>
                  <a:srgbClr val="0070c0"/>
                </a:solidFill>
                <a:latin typeface="Lucida Sans"/>
              </a:rPr>
              <a:t>ct [cst],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 [cat]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possible approa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91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Query(P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fect match: Search for P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less: Search for P in D2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more: Search for 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n D1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ubstitution: Search for 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n D2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We need 2p + 2 hash computations for 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Pro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PU efficient, no cache misses for computing P’s hashes; but O(p) cache misses to search in D1 and D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Con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rge space because of the many strings in D2 which must be stored to search in the hash table of D2, unless we avoid collision (perfect hash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FALSE MATCHES: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tw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atches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s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as SUB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verlap vs Edi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stanc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dictionary data structure stores the term vocabulary, but…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 in what data structure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Lucida Sans"/>
              </a:rPr>
              <a:t>K-gram 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 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(useful for &gt;1 error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7524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 index contains for ev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ram (he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=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) all terms including that k-gra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292400" y="409104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282680" y="462456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2057400" y="42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2057400" y="47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395520" y="409104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99960" y="347184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2057400" y="3633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3355200" y="347184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381120" y="469116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002200" y="409104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5" name="AutoShape 13"/>
          <p:cNvCxnSpPr>
            <a:stCxn id="329" idx="3"/>
            <a:endCxn id="334" idx="1"/>
          </p:cNvCxnSpPr>
          <p:nvPr/>
        </p:nvCxnSpPr>
        <p:spPr>
          <a:xfrm>
            <a:off x="4509720" y="432396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 Box 14"/>
          <p:cNvSpPr/>
          <p:nvPr/>
        </p:nvSpPr>
        <p:spPr>
          <a:xfrm>
            <a:off x="4821840" y="3471840"/>
            <a:ext cx="1159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dd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7" name="AutoShape 15"/>
          <p:cNvCxnSpPr>
            <a:stCxn id="332" idx="3"/>
            <a:endCxn id="336" idx="1"/>
          </p:cNvCxnSpPr>
          <p:nvPr/>
        </p:nvCxnSpPr>
        <p:spPr>
          <a:xfrm>
            <a:off x="4254120" y="370476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Line 16"/>
          <p:cNvSpPr/>
          <p:nvPr/>
        </p:nvSpPr>
        <p:spPr>
          <a:xfrm>
            <a:off x="6095880" y="37101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6400800" y="4319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6095880" y="4929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19"/>
          <p:cNvSpPr/>
          <p:nvPr/>
        </p:nvSpPr>
        <p:spPr>
          <a:xfrm>
            <a:off x="4921920" y="469116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2" name="AutoShape 20"/>
          <p:cNvCxnSpPr>
            <a:stCxn id="333" idx="3"/>
            <a:endCxn id="341" idx="1"/>
          </p:cNvCxnSpPr>
          <p:nvPr/>
        </p:nvCxnSpPr>
        <p:spPr>
          <a:xfrm flipV="1">
            <a:off x="4495680" y="4890240"/>
            <a:ext cx="3880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TextBox 21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Content Placeholder 23"/>
          <p:cNvSpPr/>
          <p:nvPr/>
        </p:nvSpPr>
        <p:spPr>
          <a:xfrm>
            <a:off x="684360" y="551808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end k-1 symbol $ at the front of each string, in order to generate a number L of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-grams for a string of length L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Overlap Distanc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umerate all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s in Q = mon </a:t>
            </a:r>
            <a:r>
              <a:rPr b="0" lang="en-US" sz="2400" spc="-1" strike="noStrike">
                <a:solidFill>
                  <a:srgbClr val="00b050"/>
                </a:solidFill>
                <a:latin typeface="Lucida Sans"/>
              </a:rPr>
              <a:t>($m, mo, 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417600" y="4754520"/>
            <a:ext cx="8618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index to rank all lexicon terms according to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"/>
              </a:rPr>
              <a:t>number of match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s </a:t>
            </a:r>
            <a:r>
              <a:rPr b="0" lang="en-US" sz="2400" spc="-1" strike="noStrike">
                <a:solidFill>
                  <a:srgbClr val="00b050"/>
                </a:solidFill>
                <a:latin typeface="Lucida Sans"/>
              </a:rPr>
              <a:t>(moo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633680" y="315432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623960" y="368784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398680" y="3306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398680" y="3840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736800" y="315432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1641240" y="253512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2398680" y="2697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696480" y="253512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3722400" y="375444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343840" y="315432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9" name="AutoShape 13"/>
          <p:cNvCxnSpPr>
            <a:stCxn id="353" idx="3"/>
            <a:endCxn id="358" idx="1"/>
          </p:cNvCxnSpPr>
          <p:nvPr/>
        </p:nvCxnSpPr>
        <p:spPr>
          <a:xfrm>
            <a:off x="4851000" y="338724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Text Box 14"/>
          <p:cNvSpPr/>
          <p:nvPr/>
        </p:nvSpPr>
        <p:spPr>
          <a:xfrm>
            <a:off x="5073480" y="256536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1" name="AutoShape 15"/>
          <p:cNvCxnSpPr>
            <a:stCxn id="356" idx="3"/>
            <a:endCxn id="360" idx="1"/>
          </p:cNvCxnSpPr>
          <p:nvPr/>
        </p:nvCxnSpPr>
        <p:spPr>
          <a:xfrm flipV="1">
            <a:off x="4595400" y="2764800"/>
            <a:ext cx="453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16"/>
          <p:cNvSpPr/>
          <p:nvPr/>
        </p:nvSpPr>
        <p:spPr>
          <a:xfrm>
            <a:off x="6021360" y="27734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Line 17"/>
          <p:cNvSpPr/>
          <p:nvPr/>
        </p:nvSpPr>
        <p:spPr>
          <a:xfrm flipV="1">
            <a:off x="8028000" y="3381480"/>
            <a:ext cx="64764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7456320" y="4002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5263200" y="378936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6" name="AutoShape 20"/>
          <p:cNvCxnSpPr>
            <a:stCxn id="357" idx="3"/>
            <a:endCxn id="365" idx="1"/>
          </p:cNvCxnSpPr>
          <p:nvPr/>
        </p:nvCxnSpPr>
        <p:spPr>
          <a:xfrm>
            <a:off x="4836960" y="3987360"/>
            <a:ext cx="388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Text Box 14"/>
          <p:cNvSpPr/>
          <p:nvPr/>
        </p:nvSpPr>
        <p:spPr>
          <a:xfrm>
            <a:off x="7210080" y="317340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8" name="AutoShape 15"/>
          <p:cNvCxnSpPr>
            <a:endCxn id="367" idx="1"/>
          </p:cNvCxnSpPr>
          <p:nvPr/>
        </p:nvCxnSpPr>
        <p:spPr>
          <a:xfrm flipV="1">
            <a:off x="6732720" y="3373200"/>
            <a:ext cx="45288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Text Box 14"/>
          <p:cNvSpPr/>
          <p:nvPr/>
        </p:nvSpPr>
        <p:spPr>
          <a:xfrm>
            <a:off x="6526800" y="378936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0" name="AutoShape 20"/>
          <p:cNvCxnSpPr>
            <a:stCxn id="365" idx="3"/>
            <a:endCxn id="369" idx="1"/>
          </p:cNvCxnSpPr>
          <p:nvPr/>
        </p:nvCxnSpPr>
        <p:spPr>
          <a:xfrm flipV="1">
            <a:off x="6194160" y="3988800"/>
            <a:ext cx="308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verlap Distance </a:t>
            </a: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versus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lect terms by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threshold on matchin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the term is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hars long (it consists of L k-gram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the number of allowed errors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(E*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k-grams of Q might be different from term’s ones because of the E errors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 at least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k-grams in Q must match a dictionary term to be a candidate answ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ED is required, post-filter results dyn pro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Rettangolo arrotondato 1"/>
          <p:cNvSpPr/>
          <p:nvPr/>
        </p:nvSpPr>
        <p:spPr>
          <a:xfrm>
            <a:off x="250920" y="5950080"/>
            <a:ext cx="8610480" cy="679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ecessary but not sufficient condition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=$mom, Q=$omo, L-E*k=3-1*2=1, T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Q = {mo,om} but EditDist = 2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with trigrams (K=3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uppose the term to compare is $$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novemb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grams ar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$$n, $no, nov, ove, vem, 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emb, mbe, b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query 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</a:rPr>
              <a:t>Q =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$$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grams ar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$$d, $de, dec, ece, cem, 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emb, mbe, b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|Q|=8, K=3, if E=1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= 8 – 1*3 = 5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NO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|Q|=8, K=3, if E=2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= 8 – 2*3 = 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OK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012000" y="2205000"/>
            <a:ext cx="2089080" cy="19447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Rettangolo 1"/>
          <p:cNvSpPr/>
          <p:nvPr/>
        </p:nvSpPr>
        <p:spPr>
          <a:xfrm>
            <a:off x="108000" y="6237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-filter is needed to check that the distance &gt; 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ast searching for k-gra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ume we wish to match the following bi-grams (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lo, or, r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against a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2-gram index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ilt over a dictionary of term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602720" y="3267000"/>
            <a:ext cx="44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602000" y="3800520"/>
            <a:ext cx="487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602720" y="4334040"/>
            <a:ext cx="48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AutoShape 7"/>
          <p:cNvSpPr/>
          <p:nvPr/>
        </p:nvSpPr>
        <p:spPr>
          <a:xfrm>
            <a:off x="2125800" y="34196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2125800" y="3952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2125800" y="4486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359160" y="3276720"/>
            <a:ext cx="98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4716360" y="327672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6024600" y="3276720"/>
            <a:ext cx="90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lo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4737240" y="380988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6036120" y="3809880"/>
            <a:ext cx="121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morb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4812120" y="440064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6178320" y="4400640"/>
            <a:ext cx="81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5" name="AutoShape 17"/>
          <p:cNvCxnSpPr>
            <a:stCxn id="388" idx="3"/>
            <a:endCxn id="389" idx="1"/>
          </p:cNvCxnSpPr>
          <p:nvPr/>
        </p:nvCxnSpPr>
        <p:spPr>
          <a:xfrm>
            <a:off x="4349880" y="3509640"/>
            <a:ext cx="367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Text Box 18"/>
          <p:cNvSpPr/>
          <p:nvPr/>
        </p:nvSpPr>
        <p:spPr>
          <a:xfrm>
            <a:off x="3364200" y="380988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7" name="AutoShape 19"/>
          <p:cNvCxnSpPr>
            <a:stCxn id="396" idx="3"/>
            <a:endCxn id="391" idx="1"/>
          </p:cNvCxnSpPr>
          <p:nvPr/>
        </p:nvCxnSpPr>
        <p:spPr>
          <a:xfrm>
            <a:off x="4530600" y="4043160"/>
            <a:ext cx="20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20"/>
          <p:cNvCxnSpPr>
            <a:stCxn id="391" idx="3"/>
            <a:endCxn id="392" idx="1"/>
          </p:cNvCxnSpPr>
          <p:nvPr/>
        </p:nvCxnSpPr>
        <p:spPr>
          <a:xfrm>
            <a:off x="5597280" y="4043160"/>
            <a:ext cx="4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AutoShape 21"/>
          <p:cNvCxnSpPr>
            <a:stCxn id="393" idx="3"/>
            <a:endCxn id="394" idx="1"/>
          </p:cNvCxnSpPr>
          <p:nvPr/>
        </p:nvCxnSpPr>
        <p:spPr>
          <a:xfrm>
            <a:off x="5978520" y="4633560"/>
            <a:ext cx="192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AutoShape 22"/>
          <p:cNvCxnSpPr>
            <a:stCxn id="389" idx="3"/>
            <a:endCxn id="390" idx="1"/>
          </p:cNvCxnSpPr>
          <p:nvPr/>
        </p:nvCxnSpPr>
        <p:spPr>
          <a:xfrm>
            <a:off x="5576400" y="3509640"/>
            <a:ext cx="4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Text Box 23"/>
          <p:cNvSpPr/>
          <p:nvPr/>
        </p:nvSpPr>
        <p:spPr>
          <a:xfrm>
            <a:off x="3346200" y="4410000"/>
            <a:ext cx="114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r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2" name="AutoShape 24"/>
          <p:cNvCxnSpPr>
            <a:stCxn id="401" idx="3"/>
            <a:endCxn id="393" idx="1"/>
          </p:cNvCxnSpPr>
          <p:nvPr/>
        </p:nvCxnSpPr>
        <p:spPr>
          <a:xfrm flipV="1">
            <a:off x="4497480" y="4633560"/>
            <a:ext cx="2955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Rectangle 25"/>
          <p:cNvSpPr/>
          <p:nvPr/>
        </p:nvSpPr>
        <p:spPr>
          <a:xfrm>
            <a:off x="3200400" y="3200400"/>
            <a:ext cx="1295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3276720" y="4343400"/>
            <a:ext cx="1295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5" name="Group 27"/>
          <p:cNvGrpSpPr/>
          <p:nvPr/>
        </p:nvGrpSpPr>
        <p:grpSpPr>
          <a:xfrm>
            <a:off x="3276720" y="3733920"/>
            <a:ext cx="2743200" cy="1218960"/>
            <a:chOff x="3276720" y="3733920"/>
            <a:chExt cx="2743200" cy="1218960"/>
          </a:xfrm>
        </p:grpSpPr>
        <p:sp>
          <p:nvSpPr>
            <p:cNvPr id="406" name="Rectangle 28"/>
            <p:cNvSpPr/>
            <p:nvPr/>
          </p:nvSpPr>
          <p:spPr>
            <a:xfrm>
              <a:off x="3276720" y="3733920"/>
              <a:ext cx="12952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Rectangle 29"/>
            <p:cNvSpPr/>
            <p:nvPr/>
          </p:nvSpPr>
          <p:spPr>
            <a:xfrm>
              <a:off x="4724280" y="4343400"/>
              <a:ext cx="129564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8" name="Group 30"/>
          <p:cNvGrpSpPr/>
          <p:nvPr/>
        </p:nvGrpSpPr>
        <p:grpSpPr>
          <a:xfrm>
            <a:off x="4648320" y="3200400"/>
            <a:ext cx="1066680" cy="1143000"/>
            <a:chOff x="4648320" y="3200400"/>
            <a:chExt cx="1066680" cy="1143000"/>
          </a:xfrm>
        </p:grpSpPr>
        <p:sp>
          <p:nvSpPr>
            <p:cNvPr id="409" name="Rectangle 31"/>
            <p:cNvSpPr/>
            <p:nvPr/>
          </p:nvSpPr>
          <p:spPr>
            <a:xfrm>
              <a:off x="4648320" y="3200400"/>
              <a:ext cx="10666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Rectangle 32"/>
            <p:cNvSpPr/>
            <p:nvPr/>
          </p:nvSpPr>
          <p:spPr>
            <a:xfrm>
              <a:off x="4648320" y="3733920"/>
              <a:ext cx="10666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1" name="Rectangle 33"/>
          <p:cNvSpPr/>
          <p:nvPr/>
        </p:nvSpPr>
        <p:spPr>
          <a:xfrm>
            <a:off x="5943600" y="3733920"/>
            <a:ext cx="1371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34"/>
          <p:cNvSpPr/>
          <p:nvPr/>
        </p:nvSpPr>
        <p:spPr>
          <a:xfrm>
            <a:off x="6095880" y="4343400"/>
            <a:ext cx="9907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35"/>
          <p:cNvSpPr/>
          <p:nvPr/>
        </p:nvSpPr>
        <p:spPr>
          <a:xfrm>
            <a:off x="5943600" y="3200400"/>
            <a:ext cx="10666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AutoShape 36"/>
          <p:cNvSpPr/>
          <p:nvPr/>
        </p:nvSpPr>
        <p:spPr>
          <a:xfrm>
            <a:off x="811080" y="4999680"/>
            <a:ext cx="7261560" cy="1238040"/>
          </a:xfrm>
          <a:prstGeom prst="upArrowCallout">
            <a:avLst>
              <a:gd name="adj1" fmla="val 258154"/>
              <a:gd name="adj2" fmla="val 258103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tandard postings “merge” will enumerate term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with their cardina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 Box 37"/>
          <p:cNvSpPr/>
          <p:nvPr/>
        </p:nvSpPr>
        <p:spPr>
          <a:xfrm>
            <a:off x="916200" y="635148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Then choose terms if #occ possibly filter out &lt; L – k*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TextBox 37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Lucida Sans"/>
              </a:rPr>
              <a:t>Context-sensitive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924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xt: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o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the phrase query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“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d like to respo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d you mean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lew from Heathro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cause no docs matched the query phras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issues in 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numerate multiple alternatives and then need to figure out which to present to the user for “Did you mean?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 heuristi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alternative hitting most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log analysis + tweak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especially popular, topical que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ell-correction is computationally expensiv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only on queries that matched few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ophisticated quer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ild-card queries: *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mon*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ind all docs containing words beginning with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a Prefix-search data struc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*mon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words ending 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intain a prefix-search data structure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evers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rm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517680" y="5370480"/>
            <a:ext cx="794196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can we solve the wild-card query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pro*cen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* in the middle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o*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uld look up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*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intersect the two lists 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(expensiv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e*at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il*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may result in many Boolea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solution: transform wild-card queries so that the *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occur at the e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gives rise to the </a:t>
            </a:r>
            <a:r>
              <a:rPr b="1" lang="en-US" sz="2600" spc="-1" strike="noStrike">
                <a:solidFill>
                  <a:srgbClr val="00a000"/>
                </a:solidFill>
                <a:latin typeface="Lucida Sans"/>
              </a:rPr>
              <a:t>Permu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naïve diction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508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 array of struc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r[20]      int           Postings 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20 bytes        4/8 bytes        4/8 bytes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store a dictionary in memory efficiently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quickly look up elements at query tim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80960" y="2502000"/>
            <a:ext cx="4846680" cy="2151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ter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llo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dex und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hello$, ello$h, llo$he, lo$hel, o$hell, $hel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ere $ is a special symbo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  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lookup on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Y$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*Z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??? Exercis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otate query wild-card to the righ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*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$P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use prefix-search data struct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ermuterm problem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≈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4x lexicon 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AutoShape 1028"/>
          <p:cNvSpPr/>
          <p:nvPr/>
        </p:nvSpPr>
        <p:spPr>
          <a:xfrm>
            <a:off x="3282120" y="3813120"/>
            <a:ext cx="4183200" cy="598320"/>
          </a:xfrm>
          <a:prstGeom prst="upArrowCallout">
            <a:avLst>
              <a:gd name="adj1" fmla="val 174805"/>
              <a:gd name="adj2" fmla="val 174789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mpirical observation for English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ass of heuristics to expand a query into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phone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quival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specific – mainly for nam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hebyshev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chebychef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for the U.S. census in 1918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urn every token to be indexed into a reduced form consisting of 4 cha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 the same with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ild and search an index on the reduced fo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tain the first letter of the word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erma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 all occurrences of the following letters to '0' (zero)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  'A', E', 'I', 'O', 'U', 'H', 'W', 'Y'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erma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rm0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 letters to digits as follows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, F, P,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, G, J, K, Q, S, X,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,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,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0rm0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650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cont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move all pairs of consecutive equal digit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H06505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650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1800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move all zeros from the resulting str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H06505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65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1800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d the resulting string with trailing zeros and return the first four positions, which will be of the form &lt;uppercase letter&gt; &lt;digit&gt; &lt;digit&gt; &lt;digit&gt;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rman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so becomes H655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undex is the classic algorithm, provided by most databases (Oracle, Microsoft, …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t very useful – for information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kay for “high recall” tasks (e.g., Interpol), though biased to names of certain nationalit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algorithms for phonetic matching perform much better in the context of I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hav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itional inverted index (with skip pointer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ld-card inde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ll-corr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could solve queries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(SPELL(moriset) AND toron*to) OR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OUNDEX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(chaikofski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choi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e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i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me IR systems use hashes, some trees/t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27040" y="1852560"/>
            <a:ext cx="7813800" cy="3975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460840" y="236232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ttangolo 4"/>
          <p:cNvSpPr/>
          <p:nvPr/>
        </p:nvSpPr>
        <p:spPr>
          <a:xfrm>
            <a:off x="411120" y="5938920"/>
            <a:ext cx="81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The current vers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rmurHas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(vers 3) yields a 32-bit or 128-bit hash valu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nother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112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123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5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127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7" name="TextBox 40"/>
          <p:cNvSpPr/>
          <p:nvPr/>
        </p:nvSpPr>
        <p:spPr>
          <a:xfrm>
            <a:off x="408960" y="23572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141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42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bit len of 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Tahoma"/>
              </a:rPr>
              <a:t>Ex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attern P is 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Dict = {abaco, box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olo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rizio, pippo, zoo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.</cp:lastModifiedBy>
  <cp:lastPrinted>2009-04-22T19:24:48Z</cp:lastPrinted>
  <dcterms:modified xsi:type="dcterms:W3CDTF">2020-10-27T09:52:00Z</dcterms:modified>
  <cp:revision>1219</cp:revision>
  <dc:subject/>
  <dc:title>Web Algorithmics</dc:title>
</cp:coreProperties>
</file>